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822312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440" y="3911040"/>
            <a:ext cx="822312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044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720" y="177336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000" y="177336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440" y="391104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720" y="391104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000" y="391104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0440" y="1773360"/>
            <a:ext cx="82231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82231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0440" y="382320"/>
            <a:ext cx="822312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44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0440" y="1773360"/>
            <a:ext cx="82231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88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0440" y="3911040"/>
            <a:ext cx="822312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822312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440" y="3911040"/>
            <a:ext cx="822312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044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88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0720" y="177336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000" y="177336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0440" y="391104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0720" y="391104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000" y="391104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0440" y="1773360"/>
            <a:ext cx="82231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82231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82231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0440" y="382320"/>
            <a:ext cx="822312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044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88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0440" y="3911040"/>
            <a:ext cx="822312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822312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440" y="3911040"/>
            <a:ext cx="822312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044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88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0720" y="177336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1000" y="177336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0440" y="391104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0720" y="391104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1000" y="391104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0440" y="1773360"/>
            <a:ext cx="82231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82231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60440" y="382320"/>
            <a:ext cx="822312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044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88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0440" y="3911040"/>
            <a:ext cx="822312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822312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440" y="3911040"/>
            <a:ext cx="822312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044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88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0720" y="177336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000" y="177336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0440" y="391104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0720" y="391104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000" y="391104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925-C060-447B-B8FF-7A6B100F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60440" y="1773360"/>
            <a:ext cx="82231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E401-8944-444C-9786-307244E5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82231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1E9-8665-4CF7-833C-12B6A808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4D1-7292-417F-8054-F2FAE9FE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895-D88D-47D5-9950-E70616F3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60440" y="382320"/>
            <a:ext cx="822312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A7C-DA30-49E4-A9DF-0DCB7201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044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101-C2DC-4F9D-B3B3-31EAFDC9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88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130-34F1-459B-B5C3-50E0FDC2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0440" y="3911040"/>
            <a:ext cx="822312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2EF-6E99-4657-BF01-18A10B48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822312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0440" y="3911040"/>
            <a:ext cx="822312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1FCA-D778-4F5C-9C85-BDCD173D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044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88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BC7-2F62-4019-879D-5585C17A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0440" y="382320"/>
            <a:ext cx="822312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40720" y="177336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1000" y="177336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0440" y="391104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40720" y="391104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1000" y="3911040"/>
            <a:ext cx="264744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6AD-14FB-46DF-88DF-22227934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044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91104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044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773360"/>
            <a:ext cx="40125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440" y="3911040"/>
            <a:ext cx="822312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 LT Com 45 Light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0440" y="1773360"/>
            <a:ext cx="82231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1" marL="343080" indent="-343080">
              <a:spcAft>
                <a:spcPts val="901"/>
              </a:spcAft>
              <a:buClr>
                <a:srgbClr val="179c7d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2" marL="343080" indent="-343080">
              <a:spcAft>
                <a:spcPts val="901"/>
              </a:spcAft>
              <a:buClr>
                <a:srgbClr val="a8afaf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3" marL="343080" indent="-343080">
              <a:spcAft>
                <a:spcPts val="901"/>
              </a:spcAft>
              <a:buClr>
                <a:srgbClr val="a8afaf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4" marL="343080" indent="-343080">
              <a:spcAft>
                <a:spcPts val="901"/>
              </a:spcAft>
              <a:buClr>
                <a:srgbClr val="a8afaf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5" marL="343080" indent="-343080">
              <a:spcAft>
                <a:spcPts val="9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6" marL="343080" indent="-343080">
              <a:spcAft>
                <a:spcPts val="9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" name="Line 7"/>
          <p:cNvSpPr/>
          <p:nvPr/>
        </p:nvSpPr>
        <p:spPr>
          <a:xfrm>
            <a:off x="460440" y="6113520"/>
            <a:ext cx="8223120" cy="0"/>
          </a:xfrm>
          <a:prstGeom prst="line">
            <a:avLst/>
          </a:prstGeom>
          <a:ln w="31680">
            <a:solidFill>
              <a:srgbClr val="179c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3" name="Picture 19" descr="scai_43mm_rgb"/>
          <p:cNvPicPr/>
          <p:nvPr/>
        </p:nvPicPr>
        <p:blipFill>
          <a:blip r:embed="rId2"/>
          <a:stretch/>
        </p:blipFill>
        <p:spPr>
          <a:xfrm>
            <a:off x="7128000" y="6297480"/>
            <a:ext cx="155232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0440" y="534960"/>
            <a:ext cx="822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utiger LT Com 45 Ligh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0440" y="1906560"/>
            <a:ext cx="82231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Aft>
                <a:spcPts val="901"/>
              </a:spcAft>
              <a:buClr>
                <a:srgbClr val="179c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1" marL="1219320" indent="-235080">
              <a:spcAft>
                <a:spcPts val="901"/>
              </a:spcAft>
              <a:buClr>
                <a:srgbClr val="a8afa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2" marL="1644480" indent="-245880">
              <a:spcAft>
                <a:spcPts val="901"/>
              </a:spcAft>
              <a:buClr>
                <a:srgbClr val="a8afa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3" marL="2066760" indent="-242640">
              <a:spcAft>
                <a:spcPts val="901"/>
              </a:spcAft>
              <a:buClr>
                <a:srgbClr val="a8afa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4" marL="2489040" indent="-242640">
              <a:spcAft>
                <a:spcPts val="901"/>
              </a:spcAft>
              <a:buClr>
                <a:srgbClr val="a8afa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5" marL="2489040" indent="-242640">
              <a:spcAft>
                <a:spcPts val="9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6" marL="2489040" indent="-242640">
              <a:spcAft>
                <a:spcPts val="9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460440" y="6113520"/>
            <a:ext cx="8223120" cy="0"/>
          </a:xfrm>
          <a:prstGeom prst="line">
            <a:avLst/>
          </a:prstGeom>
          <a:ln w="31680">
            <a:solidFill>
              <a:srgbClr val="179c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55760" y="6435720"/>
            <a:ext cx="18000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a8afaf"/>
                </a:solidFill>
                <a:latin typeface="Frutiger LT Com 55 Roman"/>
              </a:rPr>
              <a:t>© Fraunhofer SCAI 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" name="Line 6"/>
          <p:cNvSpPr/>
          <p:nvPr/>
        </p:nvSpPr>
        <p:spPr>
          <a:xfrm>
            <a:off x="460440" y="1601640"/>
            <a:ext cx="8223120" cy="0"/>
          </a:xfrm>
          <a:prstGeom prst="line">
            <a:avLst/>
          </a:prstGeom>
          <a:ln w="12600">
            <a:solidFill>
              <a:srgbClr val="179c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0440" y="476280"/>
            <a:ext cx="8223120" cy="0"/>
          </a:xfrm>
          <a:prstGeom prst="line">
            <a:avLst/>
          </a:prstGeom>
          <a:ln w="50760">
            <a:solidFill>
              <a:srgbClr val="179c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46" name="Picture 8" descr="scai_43mm_rgb"/>
          <p:cNvPicPr/>
          <p:nvPr/>
        </p:nvPicPr>
        <p:blipFill>
          <a:blip r:embed="rId2"/>
          <a:stretch/>
        </p:blipFill>
        <p:spPr>
          <a:xfrm>
            <a:off x="7128000" y="6297480"/>
            <a:ext cx="155232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12"/>
          <p:cNvSpPr/>
          <p:nvPr/>
        </p:nvSpPr>
        <p:spPr>
          <a:xfrm>
            <a:off x="460440" y="476280"/>
            <a:ext cx="8223120" cy="0"/>
          </a:xfrm>
          <a:prstGeom prst="line">
            <a:avLst/>
          </a:prstGeom>
          <a:ln w="50760">
            <a:solidFill>
              <a:srgbClr val="179c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460440" y="2457360"/>
            <a:ext cx="8223120" cy="0"/>
          </a:xfrm>
          <a:prstGeom prst="line">
            <a:avLst/>
          </a:prstGeom>
          <a:ln w="12600">
            <a:solidFill>
              <a:srgbClr val="179c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460440" y="6113520"/>
            <a:ext cx="8223120" cy="0"/>
          </a:xfrm>
          <a:prstGeom prst="line">
            <a:avLst/>
          </a:prstGeom>
          <a:ln w="31680">
            <a:solidFill>
              <a:srgbClr val="179c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455760" y="6435720"/>
            <a:ext cx="18000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a8afaf"/>
                </a:solidFill>
                <a:latin typeface="Frutiger LT Com 55 Roman"/>
              </a:rPr>
              <a:t>© Fraunhofer SCAI 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87" name="Picture 25" descr="scai_43mm_rgb"/>
          <p:cNvPicPr/>
          <p:nvPr/>
        </p:nvPicPr>
        <p:blipFill>
          <a:blip r:embed="rId2"/>
          <a:stretch/>
        </p:blipFill>
        <p:spPr>
          <a:xfrm>
            <a:off x="7128000" y="6297480"/>
            <a:ext cx="1552320" cy="428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 LT Com 45 Light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60440" y="1773360"/>
            <a:ext cx="82231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1" marL="343080" indent="-343080">
              <a:spcAft>
                <a:spcPts val="901"/>
              </a:spcAft>
              <a:buClr>
                <a:srgbClr val="179c7d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2" marL="343080" indent="-343080">
              <a:spcAft>
                <a:spcPts val="901"/>
              </a:spcAft>
              <a:buClr>
                <a:srgbClr val="a8afaf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3" marL="343080" indent="-343080">
              <a:spcAft>
                <a:spcPts val="901"/>
              </a:spcAft>
              <a:buClr>
                <a:srgbClr val="a8afaf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4" marL="343080" indent="-343080">
              <a:spcAft>
                <a:spcPts val="901"/>
              </a:spcAft>
              <a:buClr>
                <a:srgbClr val="a8afaf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5" marL="343080" indent="-343080">
              <a:spcAft>
                <a:spcPts val="9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6" marL="343080" indent="-343080">
              <a:spcAft>
                <a:spcPts val="9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 LT Com 45 Light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0440" y="1773360"/>
            <a:ext cx="82231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1" marL="343080" indent="-343080">
              <a:spcAft>
                <a:spcPts val="901"/>
              </a:spcAft>
              <a:buClr>
                <a:srgbClr val="179c7d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2" marL="343080" indent="-343080">
              <a:spcAft>
                <a:spcPts val="901"/>
              </a:spcAft>
              <a:buClr>
                <a:srgbClr val="a8afaf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3" marL="343080" indent="-343080">
              <a:spcAft>
                <a:spcPts val="901"/>
              </a:spcAft>
              <a:buClr>
                <a:srgbClr val="a8afaf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4" marL="343080" indent="-343080">
              <a:spcAft>
                <a:spcPts val="901"/>
              </a:spcAft>
              <a:buClr>
                <a:srgbClr val="a8afaf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5" marL="343080" indent="-343080">
              <a:spcAft>
                <a:spcPts val="9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6" marL="343080" indent="-343080">
              <a:spcAft>
                <a:spcPts val="9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7"/>
          <p:cNvSpPr/>
          <p:nvPr/>
        </p:nvSpPr>
        <p:spPr>
          <a:xfrm>
            <a:off x="460440" y="6113520"/>
            <a:ext cx="8223120" cy="0"/>
          </a:xfrm>
          <a:prstGeom prst="line">
            <a:avLst/>
          </a:prstGeom>
          <a:ln w="31680">
            <a:solidFill>
              <a:srgbClr val="179c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165" name="Picture 19" descr="scai_43mm_rgb"/>
          <p:cNvPicPr/>
          <p:nvPr/>
        </p:nvPicPr>
        <p:blipFill>
          <a:blip r:embed="rId2"/>
          <a:stretch/>
        </p:blipFill>
        <p:spPr>
          <a:xfrm>
            <a:off x="7128000" y="6297480"/>
            <a:ext cx="1552320" cy="4287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 LT Com 45 Light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0440" y="1773360"/>
            <a:ext cx="82231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1" marL="343080" indent="-343080">
              <a:spcAft>
                <a:spcPts val="901"/>
              </a:spcAft>
              <a:buClr>
                <a:srgbClr val="179c7d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2" marL="343080" indent="-343080">
              <a:spcAft>
                <a:spcPts val="901"/>
              </a:spcAft>
              <a:buClr>
                <a:srgbClr val="a8afaf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3" marL="343080" indent="-343080">
              <a:spcAft>
                <a:spcPts val="901"/>
              </a:spcAft>
              <a:buClr>
                <a:srgbClr val="a8afaf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4" marL="343080" indent="-343080">
              <a:spcAft>
                <a:spcPts val="901"/>
              </a:spcAft>
              <a:buClr>
                <a:srgbClr val="a8afaf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5" marL="343080" indent="-343080">
              <a:spcAft>
                <a:spcPts val="9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lvl="6" marL="343080" indent="-343080">
              <a:spcAft>
                <a:spcPts val="9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Com 55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AEA4-6638-428C-8696-213522C610AE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utiger LT Com 45 Light"/>
              </a:rPr>
              <a:t>Optimale Wege – Algorithmen selbst entdecken</a:t>
            </a:r>
            <a:endParaRPr b="1" lang="en-US" sz="2400" spc="-1" strike="noStrike">
              <a:solidFill>
                <a:srgbClr val="000000"/>
              </a:solidFill>
              <a:latin typeface="Frutiger LT Com 45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9216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rutiger LT Com 55 Roman"/>
              </a:rPr>
              <a:t>Das Rheinland-Problem</a:t>
            </a:r>
            <a:r>
              <a:rPr b="0" lang="de-DE" sz="1800" spc="-1" strike="noStrike" baseline="30000">
                <a:solidFill>
                  <a:srgbClr val="000000"/>
                </a:solidFill>
                <a:latin typeface="Frutiger LT Com 55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LT Com 55 Roman"/>
              </a:rPr>
              <a:t>Wir wollen so schnell wie möglich durch 6 Städte im Rheinland reisen und kennen die Entfernungen der Städte voneinander: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09480" y="2058840"/>
          <a:ext cx="7769520" cy="2386080"/>
        </p:xfrm>
        <a:graphic>
          <a:graphicData uri="http://schemas.openxmlformats.org/drawingml/2006/table">
            <a:tbl>
              <a:tblPr/>
              <a:tblGrid>
                <a:gridCol w="1276560"/>
                <a:gridCol w="938160"/>
                <a:gridCol w="760320"/>
                <a:gridCol w="1371600"/>
                <a:gridCol w="1217520"/>
                <a:gridCol w="914400"/>
                <a:gridCol w="1290960"/>
              </a:tblGrid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sseldor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kf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pper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sseldor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kf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pper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utiger LT Com 55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 Box 93"/>
          <p:cNvSpPr/>
          <p:nvPr/>
        </p:nvSpPr>
        <p:spPr>
          <a:xfrm>
            <a:off x="356760" y="4799160"/>
            <a:ext cx="852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rutiger LT Com 55 Roman"/>
              </a:rPr>
              <a:t>Aufgabe: </a:t>
            </a:r>
            <a:r>
              <a:rPr b="0" lang="de-DE" sz="1800" spc="-1" strike="noStrike">
                <a:solidFill>
                  <a:srgbClr val="000000"/>
                </a:solidFill>
                <a:latin typeface="Frutiger LT Com 55 Roman"/>
              </a:rPr>
              <a:t>Suche eine möglichst kurze Rundreise und beobachte dabei, wie du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LT Com 55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Frutiger LT Com 55 Roman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Frutiger LT Com 55 Roman"/>
              </a:rPr>
              <a:t>zur Lösung dieses Problems vorgehst.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baseline="30000">
                <a:solidFill>
                  <a:srgbClr val="000000"/>
                </a:solidFill>
                <a:latin typeface="Frutiger LT Com 55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Frutiger LT Com 55 Roman"/>
              </a:rPr>
              <a:t> M. Grötschel. Schnelle Rundreisen: Das Travelling-Salesman-Problem. In S.Hußmann,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Frutiger LT Com 55 Roman"/>
              </a:rPr>
              <a:t>   B. Lutz-Westphal (Hrsg.). Kombinatorische Optimierung erleben. Vieweg, Wiesbaden, 2007.</a:t>
            </a:r>
            <a:endParaRPr b="0" lang="en-US" sz="14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06:46:16Z</dcterms:created>
  <dc:creator>"KLIMALA programmierung"</dc:creator>
  <dc:description/>
  <dc:language>en-US</dc:language>
  <cp:lastModifiedBy>Anton Schueller</cp:lastModifiedBy>
  <dcterms:modified xsi:type="dcterms:W3CDTF">2012-09-26T14:45:41Z</dcterms:modified>
  <cp:revision>216</cp:revision>
  <dc:subject/>
  <dc:title>Folie 1</dc:title>
</cp:coreProperties>
</file>